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FE73-C1F0-4C80-A60E-08DA24E8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674-6053-4BAB-BE0A-63894898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8F9-5ED6-411C-8033-E79ECA9F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11B-E4D3-42FF-BF0A-E9CDC33D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1AD-DA63-4298-A2FA-04971551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838-CD83-42F3-B4B1-06602B0D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AE9-0A4A-4972-AA58-8F8B5854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BD75-3AAE-40FE-A5A5-35872419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5664-0299-4E26-B378-AFE572D7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D96D-3CE9-432C-BAFE-E4AF8433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6528-C5E5-4E73-8982-E0479991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4890-AB6D-450D-A486-D6E06910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5FE9-DD13-4B37-8641-D40C2023B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58760" y="1936800"/>
            <a:ext cx="9610560" cy="2752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609960" y="3781440"/>
            <a:ext cx="32655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Game Descrip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962440" y="3556080"/>
            <a:ext cx="3895560" cy="1609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Eigenschaften von Objekte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2600" y="2200320"/>
            <a:ext cx="905508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as sind Objekte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iel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rden als Punkte auf der Karte dargestell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esitzt einen Wirkungsbereic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rei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iel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zieht sich auf die Größe des Spielfeldes (min. 2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zieht sich auf die Größe des Spielfeldes (min. 5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Spielkart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2600" y="2200320"/>
            <a:ext cx="9055080" cy="46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re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öß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stimmt der eingestellte Radi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f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ig Bo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fios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ufträge (A – B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uptquarti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z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ie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ffic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uptquarti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60680" y="2846520"/>
            <a:ext cx="4965480" cy="1598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9040" y="367920"/>
            <a:ext cx="9258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Struktur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57160" y="1682640"/>
            <a:ext cx="85089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76720" y="923760"/>
            <a:ext cx="38448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Hauptmenü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978200" y="1905120"/>
            <a:ext cx="61084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0720" y="1003320"/>
            <a:ext cx="9258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Spiel erstelle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031840" y="2147760"/>
            <a:ext cx="6096240" cy="4880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1240920"/>
            <a:ext cx="9258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Arial"/>
              </a:rPr>
              <a:t>Spiel beitreten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031840" y="2147760"/>
            <a:ext cx="609624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9040" y="1240920"/>
            <a:ext cx="9258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Arial"/>
              </a:rPr>
              <a:t>Spiel Chann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031840" y="2147760"/>
            <a:ext cx="609624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60680" y="3311640"/>
            <a:ext cx="4743360" cy="1303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Allgemeine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2600" y="2200320"/>
            <a:ext cx="905508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line Spiel für mobile Endgerä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utzt GP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ines Multiplayer Spi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Kombination au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hnitzeljag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äuber und Gendar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f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8240" y="1003320"/>
            <a:ext cx="92581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Spielst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2600" y="2200320"/>
            <a:ext cx="9055080" cy="44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neriert die Position der Hauptquartiere der Tea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Zeichnet diese auf der Karte e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piel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hen zu ihren Hauptquartier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olizeiche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tzt eine bestimmte Anzahl von Agents auf der Kar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piel begin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9040" y="923400"/>
            <a:ext cx="9258480" cy="8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Aufgaben der Team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2600" y="2200320"/>
            <a:ext cx="9055080" cy="38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olizei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fiosi aufspüren und verhaft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ufspür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chtkontan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ung von Ag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erhaft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em sich ein Polizist eine bestimmte Zeit im Bereich eines Mafioso aufhä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fi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fträge ausführe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fiosi müssen ein Objekt von A nach B transportier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Ereigniss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2600" y="2200320"/>
            <a:ext cx="9055080" cy="27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fioso wird gefass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lizei erhält Punk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fioso kann eine bestimmte Zeit lang keine Aufträge annehm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r muss zurück zum Hauptquarti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fioso erfüllt einen Auftra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fia erhält Punk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968480" y="3164040"/>
            <a:ext cx="5662800" cy="159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Spieleinstellunge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2600" y="2200320"/>
            <a:ext cx="9055080" cy="43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iel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st F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uer um einen Mafioso zu fass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 m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ezetime eines Mafios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 m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nkteanzah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 Spieleranzah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zahl der Ag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us des Spielfel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Big Boss erhält Auftra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2600" y="2200320"/>
            <a:ext cx="905508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uftra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hal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ehlen sie 10 Gewehre von Luigi und liefern sie die Ware bei Don Charly ab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r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0 Punk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Big Boss verteilt die Aufträg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2600" y="2200320"/>
            <a:ext cx="9055080" cy="15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 Auftra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n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Szenario 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2600" y="2200320"/>
            <a:ext cx="9055080" cy="29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ani und Andi holen die Ware a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efinden sich auf dem Weg zum Übergabeor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rden jedoch von einem Agent gesicht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fficer verfolgt si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ani kann nicht entkommen und wird gefass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ndi entkomm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sultat: Mission Fehlgeschlag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Karte aus Sicht der Mafiosi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031840" y="2147760"/>
            <a:ext cx="6096240" cy="4880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18040" y="3067200"/>
            <a:ext cx="78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ui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27520" y="6162840"/>
            <a:ext cx="1339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 Car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45040" y="5210280"/>
            <a:ext cx="1181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g B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57440" y="3225960"/>
            <a:ext cx="78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68760" y="3781440"/>
            <a:ext cx="78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76800" y="3781440"/>
            <a:ext cx="78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957480" y="3301920"/>
            <a:ext cx="1609920" cy="360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592520" y="3406680"/>
            <a:ext cx="14511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978200" y="2136600"/>
            <a:ext cx="6108480" cy="48913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Karte aus Sicht der Polizei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18040" y="3067200"/>
            <a:ext cx="102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61480" y="3940200"/>
            <a:ext cx="1022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fi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53080" y="5130720"/>
            <a:ext cx="102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89560" y="5607000"/>
            <a:ext cx="102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302080" y="3787920"/>
            <a:ext cx="1070280" cy="911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061480" y="4336920"/>
            <a:ext cx="1022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6021360" y="3925800"/>
            <a:ext cx="1768680" cy="2127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6105600" y="4243320"/>
            <a:ext cx="1758960" cy="212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5937120" y="4433760"/>
            <a:ext cx="2653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Voraussetzunge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2600" y="2200320"/>
            <a:ext cx="9055080" cy="36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PS fähiges Handy oder PD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lattformen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crosoft .n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ternetverbindung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P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SDP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SUP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851120" y="2286000"/>
            <a:ext cx="6499080" cy="2244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240" y="685440"/>
            <a:ext cx="9258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Geplante Umsetzun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2600" y="2200320"/>
            <a:ext cx="9055080" cy="18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rver – Client Prinzi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Kommunikation im Spi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achrichte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 einzelne Spiel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 al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33600" y="2846520"/>
            <a:ext cx="7061040" cy="1598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Worum geht’s bei CMIYC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2600" y="2200320"/>
            <a:ext cx="905508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 Team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f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ührt Aufträge au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lize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ereitelt Aufträge der Maf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Ziel des Spiel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rreichung einer bestimmten Punkteanzah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70240" y="2930400"/>
            <a:ext cx="3143160" cy="1600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Mafia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2600" y="2200320"/>
            <a:ext cx="9055080" cy="44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ig Bos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rhält Aufträge vom Serv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rgibt Aufträge an die Mafios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aktiviert Agent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fio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rfüllt Missionen für den Big Bo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uptquarti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rtpunkt der Maf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standteil von Aufträg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Polizei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2600" y="2200320"/>
            <a:ext cx="905508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uptquar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punkt der Polizis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P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äher mit bestimmtem Überwachungsberei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et Aktivitäten an die gesamte Poliz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zahl sowie Überwachungsbereich hängen von der Größe des Spielfeldes a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haftet Mafio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zt Ag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nn Agents reaktivi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